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49C-606C-402C-B7F8-C7A0A5FF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81F-0D79-4E46-97E6-EF263FEF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D3B-BA56-4546-A5E6-B9A3516F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9F6-2A60-4D54-9133-0FB9409F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D05E-B2F8-44E0-9DB4-389FBD09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6FFF-56D7-4D2C-861D-D550C103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DEDD-2BFC-4583-9439-B27E3C26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1C0B-BBAD-41D2-B26B-560D0278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E2F7-AFF6-497E-B4B8-42B1F0CD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62A3-2D6C-41F3-BD42-2A403C49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D0A9-25A4-446B-9C19-4FAD5C16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D7D-C4BE-42F8-8CBA-E1D6B695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16EB-2D84-4CF4-BC34-F00ABD6D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EC12-AC1C-469D-B53D-A37F5FE2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551B-22A9-48EE-8043-F06CE5A3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7242-E44D-498E-B661-0540FEB1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7BD6-6C67-497E-8966-00AE595D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C25-93FD-47ED-AF64-429EC79C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00F-9736-4DC1-8584-F1FC6D59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E26-8D01-4393-B7EF-ECA8E083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166-3671-4D48-8B9D-73927460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168-963D-486A-A974-1B4E3C3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733-2C94-4A9E-9235-1E0E20F2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961-C6A6-4E6A-A097-09C6E259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D84A-3244-48DE-BD6E-44041FE0E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F630-E394-4763-A8D1-CF2FF7842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DS System 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 15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igh Lev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143000"/>
            <a:ext cx="24382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h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971800"/>
            <a:ext cx="5181480" cy="32004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DS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343400"/>
            <a:ext cx="24382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5:34:30Z</dcterms:created>
  <dc:creator>CACI</dc:creator>
  <dc:description/>
  <dc:language>en-US</dc:language>
  <cp:lastModifiedBy>CACI</cp:lastModifiedBy>
  <dcterms:modified xsi:type="dcterms:W3CDTF">2006-11-15T20:26:00Z</dcterms:modified>
  <cp:revision>2</cp:revision>
  <dc:subject/>
  <dc:title>CDS System Overview</dc:title>
</cp:coreProperties>
</file>